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595F-E0BA-487F-8788-E7D837CFD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23B3-BBE6-48F6-A96C-18BAE40131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3D4-F414-48B9-86EB-C1CF89DF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068-32C8-432E-83ED-09F790BF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E35-B75D-46DE-BEEE-271B974B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61B-D01C-4A2C-83D7-A57D82C9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FADE-DD21-44BB-9DF6-D6CE1089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BB6D-69B8-495C-A9F1-57839AB8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10F3-BB34-41AD-9D6F-16353C61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33DC-C507-4FFB-BD9C-186B3883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83CC-DF1D-42F8-B82A-7454802C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8092-F52D-431F-8E77-2023CD1E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9C08-32E4-48F4-9F8E-538C2F17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908-D97A-425D-806A-63183084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5C9E-6314-46D5-8A23-36FA5279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52A1-4636-4ACC-9E1B-33F93468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3DA9-CD1C-4173-A3CC-79E01E55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F309-2A40-4D91-A7B1-6ED9FB37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0673-56A0-43A4-9210-306F142C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BA3-670E-42E2-B365-04F33372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600-DBAA-45F4-9D44-8D860694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F76-3E27-4093-AE78-D4CE5E62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244-5AAC-410B-B718-125FC53A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6D8-D059-484D-B456-DD2F006A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ED8-68DE-4561-B25E-9A59EE46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A08-B1DF-4BC9-8E13-880B215A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1CAD-ECEA-4457-A650-C6EC0818B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BD62-CCDD-43EC-9D6F-F21E5C75E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dicinska rehabilitacij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anja Zečević Lukovi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29"/>
          <p:cNvGraphicFramePr/>
          <p:nvPr/>
        </p:nvGraphicFramePr>
        <p:xfrm>
          <a:off x="357120" y="142920"/>
          <a:ext cx="8429760" cy="610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42920"/>
                    <a:ext cx="8429760" cy="6107040"/>
                  </a:xfrm>
                  <a:prstGeom prst="rect">
                    <a:avLst/>
                  </a:prstGeom>
                  <a:ln w="9360">
                    <a:solidFill>
                      <a:srgbClr val="ffcc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57160" y="142920"/>
            <a:ext cx="77724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4100400" y="292428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rance YU"/>
              </a:rPr>
              <a:t>bolesni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1"/>
          <p:cNvSpPr/>
          <p:nvPr/>
        </p:nvSpPr>
        <p:spPr>
          <a:xfrm>
            <a:off x="4114800" y="182880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ce YU"/>
              </a:rPr>
              <a:t>zdra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3962520" y="4537080"/>
            <a:ext cx="16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ce YU"/>
              </a:rPr>
              <a:t>oporav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3"/>
          <p:cNvSpPr/>
          <p:nvPr/>
        </p:nvSpPr>
        <p:spPr>
          <a:xfrm>
            <a:off x="3886200" y="579132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ce YU"/>
              </a:rPr>
              <a:t>ospos</a:t>
            </a:r>
            <a:r>
              <a:rPr b="1" lang="sr-Latn-CS" sz="2000" spc="-1" strike="noStrike">
                <a:solidFill>
                  <a:srgbClr val="ffffff"/>
                </a:solidFill>
                <a:latin typeface="France YU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ance YU"/>
              </a:rPr>
              <a:t>blj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Uzroci onesposoblje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ngenitalne anomal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ronična obolje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vr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thranje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sihijatrijski poremećaji (i narkomanija, alkoholizam..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Oštećenje (impairmen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vremeni ili trajni psihički, anatomski ili fiziološki gubitak, poremećaj strukture ili funk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ože biti vidljivo ili nevidljivo, privremeno ili trajno, progresivno ili regresiv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meri: amputacija ekstremiteta, CVI, šećerna bolest, infarkt srca, gluvoća, slep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cc66"/>
                </a:solidFill>
                <a:latin typeface="Times New Roman"/>
              </a:rPr>
              <a:t>Invalidnost-nesposobnost (disability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emogućnost izvođenja neke aktivnosti na način ili u obimu koji se smatra fiziološkim za tu osobu, a koje je nastao kao posledica ošteće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meri: teškoće u hodu, govoru, čitanju, pisanju, pri korišćenju ruk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Invali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soba koja zbog urođenog ili stečenog nedostatka fizičkih ili mentalnih sposobnosti ne može sebi (delimično ili u potpunosti) da obezbedi uslove za vođenje ličnog ili društvenog živ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Hendike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epen ograničenosti koje osoba pokazuje u samozbrinjavanju, profesiji, kulturnom i društvenom živo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ože se definisati i kao ometenost osobe u ispunjavanju svoje socijalne ulo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 HENDIKEP JE MOGUĆE UTICATI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zlikovati invalidnost od hendike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1"/>
          <p:cNvPicPr/>
          <p:nvPr/>
        </p:nvPicPr>
        <p:blipFill>
          <a:blip r:embed="rId1"/>
          <a:stretch/>
        </p:blipFill>
        <p:spPr>
          <a:xfrm>
            <a:off x="5508720" y="3357720"/>
            <a:ext cx="3024000" cy="3024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christopher-reeve_1005865c"/>
          <p:cNvPicPr/>
          <p:nvPr/>
        </p:nvPicPr>
        <p:blipFill>
          <a:blip r:embed="rId2"/>
          <a:stretch/>
        </p:blipFill>
        <p:spPr>
          <a:xfrm>
            <a:off x="4572000" y="476280"/>
            <a:ext cx="3384720" cy="284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mages"/>
          <p:cNvPicPr/>
          <p:nvPr/>
        </p:nvPicPr>
        <p:blipFill>
          <a:blip r:embed="rId3"/>
          <a:stretch/>
        </p:blipFill>
        <p:spPr>
          <a:xfrm>
            <a:off x="250920" y="476280"/>
            <a:ext cx="41828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Content Placeholder 5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252600" cy="3168720"/>
          </a:xfrm>
          <a:prstGeom prst="rect">
            <a:avLst/>
          </a:prstGeom>
          <a:ln w="0">
            <a:noFill/>
          </a:ln>
        </p:spPr>
      </p:pic>
      <p:pic>
        <p:nvPicPr>
          <p:cNvPr id="153" name="Content Placeholder 6" descr=""/>
          <p:cNvPicPr/>
          <p:nvPr/>
        </p:nvPicPr>
        <p:blipFill>
          <a:blip r:embed="rId2"/>
          <a:stretch/>
        </p:blipFill>
        <p:spPr>
          <a:xfrm>
            <a:off x="5651640" y="2852640"/>
            <a:ext cx="2449440" cy="3932280"/>
          </a:xfrm>
          <a:prstGeom prst="rect">
            <a:avLst/>
          </a:prstGeom>
          <a:ln w="0">
            <a:noFill/>
          </a:ln>
        </p:spPr>
      </p:pic>
      <p:pic>
        <p:nvPicPr>
          <p:cNvPr id="154" name="Content Placeholder 7" descr=""/>
          <p:cNvPicPr/>
          <p:nvPr/>
        </p:nvPicPr>
        <p:blipFill>
          <a:blip r:embed="rId3"/>
          <a:stretch/>
        </p:blipFill>
        <p:spPr>
          <a:xfrm>
            <a:off x="5076720" y="260280"/>
            <a:ext cx="2016360" cy="2881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USER\Desktop\NIck Vujicic\Novak+Djokovic+Nick+Vujicic+Novak+Djokovic+1Rxo5kTl_U0l.jpg"/>
          <p:cNvPicPr/>
          <p:nvPr/>
        </p:nvPicPr>
        <p:blipFill>
          <a:blip r:embed="rId4"/>
          <a:stretch/>
        </p:blipFill>
        <p:spPr>
          <a:xfrm>
            <a:off x="2340000" y="2924280"/>
            <a:ext cx="259236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Broj invalida i uzroci invalid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10% svetske popul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zroci- kongenitalne anomalije, hronična oboljenja, pothranjenost, povrede, psihijatrijski poremećaji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rast broja invalida –glad, porast broja stanovnika, produžetak životnog veka, urbanizacija i industrijaliz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Problemi koji prate invalidno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Fizička zavisnost od drugi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konomska zavisnost od porodice i društ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sihičke promene (depresija, povlačenje, agresivnost, negativizam, bolesti zavisnost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pterećenje za porodic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pterećenje za društ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rha pomoći je da dalja pomoć postane suvišn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ess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Zadaci fizikalne terapij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ce YU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spostavljanje o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tećenih funkcija ili njihova kompenzacij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boljšanje narušene autoregul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k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imalno smanjenje fizičke nesposobnosti posle oboljenja ili    povr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025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imes New Roman"/>
              </a:rPr>
              <a:t>Ciljevi</a:t>
            </a:r>
            <a:r>
              <a:rPr b="1" lang="sr-Latn-CS" sz="5400" spc="-1" strike="noStrike">
                <a:solidFill>
                  <a:srgbClr val="ffffff"/>
                </a:solidFill>
                <a:latin typeface="Times New Roman"/>
              </a:rPr>
              <a:t> rehabilitacije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928800"/>
            <a:ext cx="81532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manjenje ili otklanjanje bola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oboljšanje lokalne cirkulacij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oboljšanje lokalnog i opšteg metabolizm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manjenje edem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oboljšanje elast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osti tkiv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ovećanje pokretljivosti u zglobu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kontraktur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rtrogene, miogene, dezmogene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pre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vanje stvaranja ožiljak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timul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sanje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zarastanja kostiju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manjenje tonusa simpatikus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otorna reedukacija nakon oduzetosti ili inaktivite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oboljšanje ventilatorne funkcij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oboljšanje kard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lošk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e funkci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Primarna prevencija invalid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nabdevanje zdravom vod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dravstveno vaspitanje i prosveći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dravstvena zaštita majke i det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avilna ishr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državanje fizičke spososob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ntrola radj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cc66"/>
                </a:solidFill>
                <a:latin typeface="Times New Roman"/>
              </a:rPr>
              <a:t>Sekundarna prevencija invalidnosti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no otkrivanje, dijagnostika i lečenje oboljenja (malignih, TBC, dijabeta, HTA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fikasno zbrinjavanje povr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Tercijerna prevencija invalid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upci kojima nastojimo da smanjimo hendikep i njegove posledice na pojedinca, porodicu i društ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otetisanje, ortotisanje, prekvalifikacija, opremanje životnog prostora, prosvećivanje porodice i društva u celini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Ciljevi rehabilitacij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prečavanje težeg stepena invalidnosti i hendike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sposobljavanje invalida za nezavisan živ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apošljavanje inval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ocijalna reitegracija inval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Zadaci rehabilitacij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čuvanje ugroženih funk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spostavljanje oštećenih funk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doknada izgubljenih funkcija kroz razvijanje preostalih sposobnosti (kompezacija) ili zamenu (supstitucij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lagodjavanje invalida na invalid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ncipi med  rehabilitacij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214200" y="1571400"/>
            <a:ext cx="86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ijent je subjekat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ne objekat  rehabilitacij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po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 blagovremeno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ana rehabilitacij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bude sveobuhvatna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timski ra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traje dovoljno dugo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k se ne iscrpe sve rehabilitacione mogu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ć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sti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bude kontinuir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tode medicinske rehabilitacij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2920" y="1071720"/>
            <a:ext cx="83152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1040040" indent="-207720">
              <a:spcBef>
                <a:spcPts val="700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zikalna terap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700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na terap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700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a protetskih i ortotskih sredst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700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 boles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700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orna terapij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roblem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 komunikacij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700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spitanje i obrazovanj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meten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ce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700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 rešavanja psihijatriskih probl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700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mo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ć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 rešavanju socijalnih problem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ocijalna rehabilitacij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700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ionalno usmeravanje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fesionalna rehabilitacij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Izrada plana med. rehabilitacij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namn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Fizikalni preg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valuacija finkcija lokomotornog apar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cena psihosocijalnih mogućnosti-procena u ondosu na sebe, invalidnost, porodicu i okoli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ff"/>
                </a:solidFill>
                <a:latin typeface="Times New Roman"/>
              </a:rPr>
              <a:t>Razvoj fizikalne medicine i rehabilitacije u našoj zemlji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1981080"/>
            <a:ext cx="83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028520" indent="-20556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I  internacionalni kongers fizikalne medicine održan je u Liežu 190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 god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Katedra za fizikalnu medicinu u našoj zemlji osnovana je 1922 god. u Beogra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1952. god, prema preporuci OUN, naša zemlja prihvata program rehabilitacije invalida rata. Osniva se Zavod za rehabilitaciju RVI u Beogra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Terapija rado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abavna (okupaciona) -pletenje, vez, tk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Funkcionalna -za osposobljavanje pojedinih segmenata L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tprofesionalna -otkrivanje sklonosti i sposobnosti invalida, probni zadaci i uzor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II) Socijalna rehabilitacij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itanja u vezi sa porodicom, pravima iz radnog odnosa, invalidskog osiguranja, ekonomsko stanje, vaspitanje i obrazovanje dece, supružnički odno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daptacija ili zamena st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ocijalni radnik na osnovu socijalne ankete postaje pravni zastupnik i savetodavac porod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cc66"/>
                </a:solidFill>
                <a:latin typeface="Times New Roman"/>
              </a:rPr>
              <a:t>Uspeh rehabilitacije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5480" y="1428840"/>
            <a:ext cx="8172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Životno doba u kome je nastupila invalid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zrok invalidnosti (oboljenja CNS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morbidna ličnost (inteligencija,emotivni status, zrel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slovi sred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reme proteklo o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tank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nvalidnosti d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k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ehabilit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valitet leče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III) Profesionalna rehabilitacij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ruga faza, nakon medicinske rehabilit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drazume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ocenu preostalih sposobnosti inval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rofesionalno usmera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stručno obuča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selektivno zapošlja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raćenje do kraja prilagodjav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Object 2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27824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Definicija rehabilitacij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oces krajnje mogućeg os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obljavanja invalida kroz razvijanje njegovih PREOSTALIH fizičkih, mentalnih, socijalnih i profesionalnih mogućnosti do maksimuma (SZ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Rehabilitatio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ponovo uspostavljanje predjašnjeg st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dicinska rehabilitacij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inska rehabilitacija se bavi osposobljavanjem invalidnih lica u 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 smislu r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s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lja postupke koji s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riste u cilju prevencije, terapije i rehabilitacij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ela rehabilit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dicinska rehabilit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cijalna rehabilit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fesionalna rehabilit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dicinska rehabilitacij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habilitacija neurolo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h bolesn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habilitacij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reumatološki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lesn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habilitacij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kardiološk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oles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habilitacij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pulmološk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oles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habilitaci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traumatološk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oles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Rehabilitacija  u dečjem uzrast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Bole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tiolog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atogen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linička sl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ok bole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Lečenje (fizikalno lečenj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ogno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marna, sekundarna i tercijerna preven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lasični model razvoja bole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tiolološki faktor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tološke promene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klini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e manifestacij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2209680" y="2819520"/>
            <a:ext cx="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2209680" y="411480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remeni koncept invalidnosti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šte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j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valid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ndike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1828800" y="25146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1828800" y="36576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15:44:14Z</dcterms:created>
  <dc:creator>win98se</dc:creator>
  <dc:description/>
  <dc:language>en-US</dc:language>
  <cp:lastModifiedBy>Info</cp:lastModifiedBy>
  <dcterms:modified xsi:type="dcterms:W3CDTF">2015-02-15T12:56:28Z</dcterms:modified>
  <cp:revision>22</cp:revision>
  <dc:subject/>
  <dc:title>Fizikalna medicina i rehabilitacija</dc:title>
</cp:coreProperties>
</file>